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20B-1BE9-494D-B4CE-7EA349F3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518-DFD2-4E22-93BA-91B1EE0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B7B-3B5A-429B-B415-364EAB34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764-0916-4888-A051-5E3C0311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51A-87FA-4B80-ABBD-B39AA05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624-0DCB-4FB5-9738-8EDBE8D8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E14-AF4D-493B-967B-85FB3C7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19E-8A09-4721-AF59-EC88B001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1AB-31A3-4ED4-B4D9-74506E12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544-B5AD-4C34-B7BA-864988E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70F-BB92-46FF-A785-99B49A0D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D72-D3E3-46F0-8F59-67B09767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D72-4CDD-4479-80C0-5D478F1A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895480" y="56386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dgeons and pin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14600" y="38858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81280" y="43430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14800" y="46479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43430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124080" y="4190760"/>
            <a:ext cx="83844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00200" y="41144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39621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sheet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oyancy 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wale (gunn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37335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05120" y="32763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35812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38080" y="35049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48520" y="5181480"/>
            <a:ext cx="76176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295280" y="274320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248520" y="53337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447920" y="2819520"/>
            <a:ext cx="6933960" cy="334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5880" y="2666880"/>
            <a:ext cx="2590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50288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04920"/>
            <a:ext cx="853452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dder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705720" y="55623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086600" y="48765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562720" y="46479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2:31:08Z</dcterms:created>
  <dc:creator>clay</dc:creator>
  <dc:description/>
  <dc:language>en-US</dc:language>
  <cp:lastModifiedBy>clay</cp:lastModifiedBy>
  <dcterms:modified xsi:type="dcterms:W3CDTF">2012-01-27T04:29:29Z</dcterms:modified>
  <cp:revision>2</cp:revision>
  <dc:subject/>
  <dc:title>Hull Equipment Identification  </dc:title>
</cp:coreProperties>
</file>